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DEE5-100C-4658-84DF-D92B33FC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AF20-A017-41C4-8EAC-6A9B9918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2F02-B833-4AAA-A9B9-F1060C38C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88E0-C857-4112-809A-B75217158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C240-7C70-4364-8830-245F4354F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04AC-4305-493B-A87F-DBEFA3D8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E31C-82FB-4115-852B-166ABE78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341D-0932-4D5A-926A-C8A25BC9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2D67-4B73-4905-A5A5-DB950601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B1E7-BFFC-45A2-82C5-BB928EA4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7A48-362F-46A5-84FA-8D19BF6B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D3D7-56CC-44B7-9F88-0FFF7681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B79C-AEC8-4E2C-92B7-1A645EC7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A46C-154A-4AB9-B521-FF5781AF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D339-2B46-48AD-81C2-6C9BA15D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47BD-E6C2-4C73-9574-D0894D5B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F0D5-F821-4139-84E5-AD1FA86F4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5303-09AE-4489-A666-3C2D3024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5922-84A5-46D1-86B5-BE80568D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DB6E-0543-496F-8D9C-1C0934B3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CC90-4FA5-45E8-832D-5D08833B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8A9A-BB99-46F3-B63D-1AB6A961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6FB4-D79D-4FF8-B578-6E24BB20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C129-3F89-49D4-A7FF-183EE037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3FB0-4A8E-41A4-8C87-DE2E010D98C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1210-91AD-4097-9FD0-32ECB922EBF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nternet%20Explorer%20墙纸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04920" y="304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33"/>
                </a:solidFill>
                <a:latin typeface="Times New Roman"/>
                <a:ea typeface="华文行楷"/>
              </a:rPr>
              <a:t>定语从句</a:t>
            </a:r>
            <a:r>
              <a:rPr b="0" lang="zh-CN" sz="72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专题讲座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143000" y="5943600"/>
            <a:ext cx="6781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XZ Middle School</a:t>
            </a:r>
            <a:endParaRPr b="1" i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04920"/>
            <a:ext cx="914400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3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She has two brothers,who are both docto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4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Last Saturday they reached Shanghai,where a meeting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is to be h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在非限制性定语从句中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s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与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ic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可以在整个主句作为其先行词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指代上面或下面说的一件事，其区别如下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从意义上来看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ich(=and this/that)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可以译为“这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那”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s(=in accordance with what)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译为“正如、象”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03848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He is a teacher,which(=as)is clear from his manner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或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He is a teacher,as(=which)can be seen from his manner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e student forgot to bring his dictionary,as is often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e case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（此句中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s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不能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ic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代。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380880"/>
            <a:ext cx="925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2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b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从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s,whic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在非限制性定语从句中的位置和作用来看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s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引导的从句可置于主句之前，亦可置于主句之后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ich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一般置于主句之后。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981080"/>
            <a:ext cx="914400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is poem is written by Scott,as almost everybody knows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or:This poem,which almost everybody knows,is written by Scot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2.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Oceans cover more than 70 percent of the earth,as we have seen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or:As is well-known to us all ,oceans cover more  than 70 percent of the earth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但不可译为：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ich is well-know to us all,oceans cover more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n 70 percent of the eart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一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用适当的关系代词或关系副词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Yesterday I met doctor Wang _____told me the good news o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　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his son's passing the examina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2.The two pupils______ you taught three yeas ago have bec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　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eachers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3.He began to work in Beijing in the year______ New China 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　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founded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4.I don't know the reason______ she did n't agree to our plan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5.This is a soldier________ died in the war of Resist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86200" y="2286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Who,th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6765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Who / that / wh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25066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w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34290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w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3886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Who/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46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6.He told everything    ________he had seen in the traffic accident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7.This was the best model of the TV set_________ the fac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　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produced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　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last year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8.They have visited the Museum of Chinese Histor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　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___________Premier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z h o u ‘ s life and deeds are being shown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9.Alice,_______dress is all red, looks very pretty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0.The first thing ________I am going to do this evening is to write 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　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report about the experim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609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20574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wh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3352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313000"/>
            <a:ext cx="95248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456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imes New Roman"/>
                <a:ea typeface="华文新魏"/>
              </a:rPr>
              <a:t>           </a:t>
            </a:r>
            <a:r>
              <a:rPr b="1" lang="zh-CN" sz="3200" spc="-1" strike="noStrike">
                <a:solidFill>
                  <a:srgbClr val="ff0033"/>
                </a:solidFill>
                <a:latin typeface="Times New Roman"/>
                <a:ea typeface="华文新魏"/>
              </a:rPr>
              <a:t>学习定语从句的关键是如何选择关联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。关联词在句中作状语就应使用关系副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.(where, when ,why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等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否则使用关系代词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(who ,whom, whose,which, tha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等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33"/>
                </a:solidFill>
                <a:latin typeface="Times New Roman"/>
                <a:ea typeface="华文新魏"/>
              </a:rPr>
              <a:t>二、</a:t>
            </a:r>
            <a:r>
              <a:rPr b="1" lang="zh-CN" sz="2800" spc="-1" strike="noStrike">
                <a:solidFill>
                  <a:srgbClr val="ff0033"/>
                </a:solidFill>
                <a:latin typeface="Arial"/>
                <a:ea typeface="华文新魏"/>
              </a:rPr>
              <a:t>由</a:t>
            </a:r>
            <a:r>
              <a:rPr b="1" lang="zh-CN" sz="2800" spc="-1" strike="noStrike">
                <a:solidFill>
                  <a:srgbClr val="ff0033"/>
                </a:solidFill>
                <a:latin typeface="Arial"/>
                <a:ea typeface="华文新魏"/>
              </a:rPr>
              <a:t>who,whom,whose</a:t>
            </a:r>
            <a:r>
              <a:rPr b="1" lang="zh-CN" sz="2800" spc="-1" strike="noStrike">
                <a:solidFill>
                  <a:srgbClr val="ff0033"/>
                </a:solidFill>
                <a:latin typeface="Arial"/>
                <a:ea typeface="华文新魏"/>
              </a:rPr>
              <a:t>引导的定语从句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(who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作主语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whom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作宾语，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whos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用作定语，同时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whos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还可以指物，相当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of which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.g.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doctor who sav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e baby's lif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He is the student whom the teacher praised at the meeting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456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一、           在复句中修饰名词或代词的从句叫做定语从句。需要学习和掌握的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定语从句有以下三种：由关系代词或关系副词引导的定语从句。由介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+whic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引导的定语从句。非限制性定语从句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28600"/>
            <a:ext cx="9144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I know the girl whose mother died a year ag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Have you seen the notebook whose cover is blac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33"/>
                </a:solidFill>
                <a:latin typeface="Arial"/>
                <a:ea typeface="华文新魏"/>
              </a:rPr>
              <a:t>三、由</a:t>
            </a:r>
            <a:r>
              <a:rPr b="0" lang="zh-CN" sz="3200" spc="-1" strike="noStrike">
                <a:solidFill>
                  <a:srgbClr val="ff0033"/>
                </a:solidFill>
                <a:latin typeface="Arial"/>
                <a:ea typeface="华文新魏"/>
              </a:rPr>
              <a:t>which</a:t>
            </a:r>
            <a:r>
              <a:rPr b="0" lang="zh-CN" sz="3200" spc="-1" strike="noStrike">
                <a:solidFill>
                  <a:srgbClr val="ff0033"/>
                </a:solidFill>
                <a:latin typeface="Arial"/>
                <a:ea typeface="华文新魏"/>
              </a:rPr>
              <a:t>引导的定语从句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：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(which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在从句中作主语或谓语动词的宾 语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E.g.1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store which opens all nig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pen which my brother bought for 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Is this the House in which Lu X un once lived?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(or Is this the house which Lu X un once lived in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magazine which you are looking f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Notes: which,whom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在从句中作介词的宾语时，介词一般可置                                                                                                                                                                                                                                                    关系代词之前或放在从句原来的位置。但在含有介词的动词固定短语中介词只能放在原来的位置上，而不能放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which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之前，如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则不能改为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magazine for which you are look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He lives in a room whose window opens to the sou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629400" cy="24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Arial"/>
                <a:ea typeface="华文新魏"/>
              </a:rPr>
              <a:t>四由</a:t>
            </a:r>
            <a:r>
              <a:rPr b="1" lang="zh-CN" sz="3200" spc="-1" strike="noStrike">
                <a:solidFill>
                  <a:srgbClr val="ff0033"/>
                </a:solidFill>
                <a:latin typeface="Arial"/>
                <a:ea typeface="华文新魏"/>
              </a:rPr>
              <a:t>that</a:t>
            </a:r>
            <a:r>
              <a:rPr b="1" lang="zh-CN" sz="3200" spc="-1" strike="noStrike">
                <a:solidFill>
                  <a:srgbClr val="ff0033"/>
                </a:solidFill>
                <a:latin typeface="Arial"/>
                <a:ea typeface="华文新魏"/>
              </a:rPr>
              <a:t>引导的定语从句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可以指人或物，代替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o,whom,which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在定语从句中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在从句中作主语、宾语，但不能放在介词后作介词宾语：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676520"/>
            <a:ext cx="83818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photo(that/which)I took in Beijing last ye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man(that/who)lives next do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3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Is this the professor that you talked about yesterday?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(abou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不能放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前面。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648320"/>
            <a:ext cx="6858000" cy="11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但下列情况只能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1.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序数词或最高级形容词修饰先行词时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</a:t>
            </a:r>
            <a:r>
              <a:rPr b="0" lang="zh-CN" sz="13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13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304920"/>
            <a:ext cx="91440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is is one of the best novels that I have ever re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e first English song that I learned was ABC so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All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much,everything,nothing,something,anything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作先行词时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at.(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但先行词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everybody,everyon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时应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who,on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指人时也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。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verything that we saw at the exhibition greatly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interested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Is there anything that belongs to you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3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ll that we need is more tim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4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Nothing that the parents do does n't influence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eir childre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3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先行词为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ny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、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no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、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only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、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very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等修饰时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 is the only way that we can find at pres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twelfth letter that she has received from hi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3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very museum that we visited for the first tim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4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可以用来引导限制性定语从句，当它在从句中作介宾时，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介词应后移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438280"/>
            <a:ext cx="914400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good student that the teachers talked about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just now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5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先行词既指人又指物的并列名词时，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.</a:t>
            </a: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5411880"/>
            <a:ext cx="457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My mother and her old friends talked of the things  and persons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 they remembered in the school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0033"/>
                </a:solidFill>
                <a:latin typeface="Times New Roman"/>
                <a:ea typeface="华文新魏"/>
              </a:rPr>
              <a:t>非限制性定语从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限制性定语从句对先行词起限制作用，而非限制性定语从句是对概 念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清楚的先行词加以追加阐述或补充说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276720"/>
            <a:ext cx="997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非限制性定语从句一般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ich/who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引导而不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或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at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引导，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作宾语的关系代词不能省略，从句与主句用逗号分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038480"/>
            <a:ext cx="9144000" cy="22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华文新魏"/>
              </a:rPr>
              <a:t>Yesterday I saw your brother,who told me the good news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华文新魏"/>
              </a:rPr>
              <a:t>of your mother's recovery from her illnes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华文新魏"/>
              </a:rPr>
              <a:t>I went to see their new house,which I liked very muc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8T08:21:01Z</dcterms:created>
  <dc:creator>swh</dc:creator>
  <dc:description/>
  <dc:language>en-US</dc:language>
  <cp:lastModifiedBy>we</cp:lastModifiedBy>
  <dcterms:modified xsi:type="dcterms:W3CDTF">2002-06-22T23:15:22Z</dcterms:modified>
  <cp:revision>11</cp:revision>
  <dc:subject/>
  <dc:title>PowerPoint 演示文稿</dc:title>
</cp:coreProperties>
</file>